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E8C-471A-4028-8EFE-9D439785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8A7-B099-45C8-8B1D-3008D2B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055-80BF-4373-99EE-9FAE71D3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F2BA-11EB-40A2-B972-A7AC1BE9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41CC-5F9C-411A-A074-264B5A6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CA59-0F75-4BF8-A9A0-448B6BF5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A45-480A-4AA5-88FF-DBB086E0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9A71-B5E3-4C14-A820-6D5AA4F2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002-16B5-4CDD-BB94-C5DAA7D2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C955-B264-461F-B4D1-AA13235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A771-987E-44FE-B2E1-B8C7DB67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379-5AE4-406F-9D7D-7966FAEA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BB0-8D8C-4249-BF47-ACE33D3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8979-5A8C-4D77-9623-C5B5588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B258-8B03-4597-993A-3FC5EB3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B008-9005-480E-8F35-57B60D3D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4B17-B448-4ACF-AB4C-60653BA0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9E0-9AD4-4124-A1AF-D128A290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5AA-9A88-48DD-B1E1-D077D43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A6E-408E-4056-BF16-253AEF06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17A-EE6F-4385-9DF7-39BD0CA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645-7846-4656-B3D4-2E165B8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328-B3E7-4E86-A829-90E00E1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495-CC40-4474-9F03-E4E5E6A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44C5-BEB7-4F2C-8708-5B7BBDEC9F2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D831-673C-4650-9309-403FC384DE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24 – 25 </a:t>
            </a:r>
            <a:r>
              <a:rPr b="1" lang="ru-RU" sz="3600" spc="-1" strike="noStrike">
                <a:solidFill>
                  <a:srgbClr val="0066ff"/>
                </a:solidFill>
                <a:latin typeface="Calibri"/>
              </a:rPr>
              <a:t>января 2006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Распределение аспирантов, обучающихся за счет средств ФБ по отраслям науки и специальност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268280"/>
          <a:ext cx="8802720" cy="577692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докторантура)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341360"/>
          <a:ext cx="8229600" cy="509760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Издательская деятельность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50920" y="1125360"/>
          <a:ext cx="5040360" cy="555336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Рос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Распределение тем по кол-ву и объему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с 2001 по 200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628640"/>
          <a:ext cx="8929800" cy="4707000"/>
        </p:xfrm>
        <a:graphic>
          <a:graphicData uri="http://schemas.openxmlformats.org/drawingml/2006/table">
            <a:tbl>
              <a:tblPr/>
              <a:tblGrid>
                <a:gridCol w="1584360"/>
                <a:gridCol w="504720"/>
                <a:gridCol w="1079640"/>
                <a:gridCol w="503280"/>
                <a:gridCol w="936720"/>
                <a:gridCol w="504720"/>
                <a:gridCol w="934920"/>
                <a:gridCol w="533520"/>
                <a:gridCol w="906480"/>
                <a:gridCol w="504720"/>
                <a:gridCol w="936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Распределение тем по факультетам за период с 2001 по 2005 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00200"/>
          <a:ext cx="8964720" cy="4478400"/>
        </p:xfrm>
        <a:graphic>
          <a:graphicData uri="http://schemas.openxmlformats.org/drawingml/2006/table">
            <a:tbl>
              <a:tblPr/>
              <a:tblGrid>
                <a:gridCol w="1737000"/>
                <a:gridCol w="495000"/>
                <a:gridCol w="93672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71640"/>
              </a:tblGrid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49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0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(Туапс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2637000"/>
          <a:ext cx="8785440" cy="42624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792360"/>
                <a:gridCol w="792000"/>
                <a:gridCol w="792360"/>
                <a:gridCol w="792000"/>
                <a:gridCol w="647640"/>
                <a:gridCol w="79236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1844640"/>
          <a:ext cx="8785440" cy="13590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3816360"/>
                <a:gridCol w="792360"/>
              </a:tblGrid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 по го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ступительное слов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тор, Л.Н. Кар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учная деятельность университета в 2005 год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ректор по НР,   В.Н. Вороб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ндратович К.В. (зав. кафедрой ДАКЗ, профессор, д.г.н.) 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 предсказуемости Невских навод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рсеньев Г.С. (профессор кафедры Гидрологии суши, профессор, д.т.н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идроэнергоресурсы Сибири и проблемы их исполь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рехова П.А. (ст. преподаватель кафедры РЯ и СО)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P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как коммуникационный процесс (инновационная технолог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митриев В.В. (профессор кафедры Прикладной экологии, д.г.н.)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работка государственного образовательного стандарта третьего поколения по экологическим образовательным стандартам в России в свете идеи Болонск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Arial Unicode MS"/>
              </a:rPr>
              <a:t>Научная деятельность университета в 2005 г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981000"/>
          <a:ext cx="8259840" cy="5673960"/>
        </p:xfrm>
        <a:graphic>
          <a:graphicData uri="http://schemas.openxmlformats.org/drawingml/2006/table">
            <a:tbl>
              <a:tblPr/>
              <a:tblGrid>
                <a:gridCol w="442440"/>
                <a:gridCol w="6187320"/>
                <a:gridCol w="141480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libri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1125360"/>
          <a:ext cx="7129440" cy="61563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сследования и разработки по приоритетным направлениям развития науки и техн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ниверситеты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Сводные сведения о выполнении НИР в 200</a:t>
            </a:r>
            <a:r>
              <a:rPr b="0" lang="en-US" sz="29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 год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197000"/>
          <a:ext cx="8302680" cy="590868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Сведения по НИР за 2005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8000" y="1557360"/>
          <a:ext cx="875196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150840"/>
                <a:gridCol w="714600"/>
                <a:gridCol w="287280"/>
                <a:gridCol w="647640"/>
                <a:gridCol w="144360"/>
                <a:gridCol w="647640"/>
                <a:gridCol w="289080"/>
                <a:gridCol w="684000"/>
                <a:gridCol w="179640"/>
                <a:gridCol w="609480"/>
                <a:gridCol w="144360"/>
                <a:gridCol w="654120"/>
                <a:gridCol w="28908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4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55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Участие в выставках и конференциях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и, всего –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онаты, представленные на выставках,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ференции –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российские,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базе вуза,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мии, дипломы, награды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аспирантура) в 2005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484280"/>
          <a:ext cx="8785440" cy="633240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7:14Z</dcterms:modified>
  <cp:revision>144</cp:revision>
  <dc:subject/>
  <dc:title>Итоговая сессия Ученого совета РГГМУ</dc:title>
</cp:coreProperties>
</file>